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38E-F3CB-439B-96B5-8F1CF6B1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61C-A396-479E-A08A-8FAE8D18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C29-7F71-4DD8-9A92-7E2AF56F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0D0-10FF-4060-9E74-350CDD03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1250-8C22-42CB-A639-1D56987B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19A7-6C46-4997-B067-722CC41D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57A8-D4AD-41E5-8129-698F0358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E3FE-E0F6-4C60-9CD9-2CB37AFA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2837-C476-4EE8-8B57-2F844683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11AF-4EAD-4779-BB3F-B7C567CF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FEA6-D693-4674-9D43-FF8773B9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4B1-1DD4-459B-A764-5A0BBF8A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0E2C-BA33-40A1-9699-3BE1F8F1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3419-ABE1-4822-841F-6DBA7454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E0EB-DDC3-4FEE-9723-D41401C0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1AD6-67FB-4192-8F26-EF4907A4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21BD-7DB7-4EC5-B52B-91DE325F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37C-B4E5-429F-8B49-A2899157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16D6-5E32-4A39-826A-2543D4A5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F75-822A-4FAE-AC9B-C5CDDCA7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32A-D47B-45BB-A09A-01FC04CF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00F-5806-4174-AF1D-9CAF2EAC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E22-10EA-4174-B3A4-C4AD79F8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2E4-A1B3-48AE-9DFD-9B99F34C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BAFD-3DD8-4975-8012-E6D83972BF4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BB19-C159-409A-BD19-674E3BA8F6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Lesson 6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School or H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choo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boys from wealthy families attended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free days each mon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ed cunei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:  “the man in charge of the whip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let-house: school buil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-father: chief te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brother”: assistant who wrote out assignments and checked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roverb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erbs: wise say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Do not write these in your notes, just be familiar with the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weet word is everybody’s frien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oving heart builds the home; a hating heart destroys the home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cribe whose hand moves as fast as the mouth, that’s a scribe for you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ome Lif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ily slept on ro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uses made of m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rls stayed home and learned housekeep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ys learned trades or skills from fathers and went to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riages were arran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ipline was har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yed musical instruments in the eve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merian Instrum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209680" cy="3333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2857680" cy="2790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962520" y="4191120"/>
            <a:ext cx="1304640" cy="2409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990720" y="5105520"/>
            <a:ext cx="1085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y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238880" y="4648320"/>
            <a:ext cx="119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r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024440" y="3108240"/>
            <a:ext cx="1095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p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umbering the Yea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C.:  Stands for “before Chris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D.:  stands for anno domini, which means “in the year of the Lor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C. comes after the year (43 B.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D. comes before the year (A.D. 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2:59:10Z</dcterms:created>
  <dc:creator>erin.hendricks</dc:creator>
  <dc:description/>
  <dc:language>en-US</dc:language>
  <cp:lastModifiedBy>erin.hendricks</cp:lastModifiedBy>
  <dcterms:modified xsi:type="dcterms:W3CDTF">2011-08-31T13:16:15Z</dcterms:modified>
  <cp:revision>2</cp:revision>
  <dc:subject/>
  <dc:title>Lesson 6</dc:title>
</cp:coreProperties>
</file>